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D97EEB-0593-4436-A3EF-DD1E19BEE5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B3BFD1-0294-487A-939B-FC6E4D895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082F733-975B-421C-9287-D820F6D22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147-0EB8-4618-8E24-731E4170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D15-C39E-46DA-BFE4-68CF3862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9E3-FD01-4D1E-BD48-5AC68802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F17-8132-496E-B70F-93331149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8D5-8F12-4C8E-9D23-381CE2D9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5FF-B0DD-4240-ACD2-E775331A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B7A-AAB5-403C-99EE-5AF890E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006-37A2-4DDC-A551-401A2C8D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C1D-83D0-4E5A-8EB3-1B831699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E5D-22A4-4D22-B0B6-A6A9682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6C4-7EF6-41B1-9EBD-DDA53E4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092-C417-4849-8C1E-A6F257C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769513-0C5C-4D64-99F4-EFAAAF5D9FA9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6DF98CA-15F9-4DB4-9D66-32E679DCFECB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Letter Relationsh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all of your spelling words in ABC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Nou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st 5 nouns that you see (person, place or thing). Draw a picture for each nou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. pe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Verb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st 5 verbs (action words) that you did today.  Draw a picture for each verb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. yaw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a 4-5 sentence paragraph about your first day of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Beginning of the Year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tretch/>
        </p:blipFill>
        <p:spPr>
          <a:xfrm>
            <a:off x="7315200" y="4419720"/>
            <a:ext cx="533520" cy="51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2"/>
          <a:stretch/>
        </p:blipFill>
        <p:spPr>
          <a:xfrm>
            <a:off x="3505320" y="6629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0:51:53Z</dcterms:created>
  <dc:creator> </dc:creator>
  <dc:description/>
  <dc:language>en-US</dc:language>
  <cp:lastModifiedBy>Mits Mits</cp:lastModifiedBy>
  <cp:lastPrinted>2009-03-12T10:54:35Z</cp:lastPrinted>
  <dcterms:modified xsi:type="dcterms:W3CDTF">2010-08-20T16:03:14Z</dcterms:modified>
  <cp:revision>13</cp:revision>
  <dc:subject/>
  <dc:title>Slide 1</dc:title>
</cp:coreProperties>
</file>